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13.png" ContentType="image/png"/>
  <Override PartName="/ppt/media/image40.png" ContentType="image/png"/>
  <Override PartName="/ppt/media/image14.png" ContentType="image/png"/>
  <Override PartName="/ppt/media/image34.wmf" ContentType="image/x-wmf"/>
  <Override PartName="/ppt/media/image9.wmf" ContentType="image/x-wmf"/>
  <Override PartName="/ppt/media/image41.png" ContentType="image/png"/>
  <Override PartName="/ppt/media/image39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8089-5F0F-4688-8A9D-AC113339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B939-52DB-4DAF-871A-8E0BC949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3C3-371A-42B7-B2CE-61C1FC04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FC78-E7BF-4248-AA52-BDC26057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EC5-9B50-4E65-A035-B25BD2F7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3D5-08DF-4323-B2B7-D2313FCA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D3E-0516-482D-8D39-15042021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37A-EB12-46A4-A31D-F145841A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B68B-6DCD-49CD-84C9-75AED316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B80B-4570-47D0-A1FE-F082A28A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A48D-CC11-4055-B687-6DDE9468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0EE-AB2A-4B84-84ED-DF82C519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BBE7-86E7-41A6-A234-A3850963A00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" Target="slide4.xml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slide" Target="slide4.xml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slide" Target="slide4.xml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slide" Target="slide4.xml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23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26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7.png"/><Relationship Id="rId3" Type="http://schemas.openxmlformats.org/officeDocument/2006/relationships/image" Target="../media/image7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9.png"/><Relationship Id="rId3" Type="http://schemas.openxmlformats.org/officeDocument/2006/relationships/image" Target="../media/image7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0.png"/><Relationship Id="rId3" Type="http://schemas.openxmlformats.org/officeDocument/2006/relationships/image" Target="../media/image7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1.png"/><Relationship Id="rId3" Type="http://schemas.openxmlformats.org/officeDocument/2006/relationships/image" Target="../media/image7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0.png"/><Relationship Id="rId3" Type="http://schemas.openxmlformats.org/officeDocument/2006/relationships/image" Target="../media/image7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7.png"/><Relationship Id="rId3" Type="http://schemas.openxmlformats.org/officeDocument/2006/relationships/image" Target="../media/image33.pn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7.png"/><Relationship Id="rId3" Type="http://schemas.openxmlformats.org/officeDocument/2006/relationships/image" Target="../media/image35.pn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7.png"/><Relationship Id="rId3" Type="http://schemas.openxmlformats.org/officeDocument/2006/relationships/image" Target="../media/image36.pn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7.png"/><Relationship Id="rId3" Type="http://schemas.openxmlformats.org/officeDocument/2006/relationships/image" Target="../media/image37.pn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7.png"/><Relationship Id="rId3" Type="http://schemas.openxmlformats.org/officeDocument/2006/relationships/image" Target="../media/image35.pn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slide" Target="slide5.xml"/><Relationship Id="rId10" Type="http://schemas.openxmlformats.org/officeDocument/2006/relationships/image" Target="../media/image4.png"/><Relationship Id="rId11" Type="http://schemas.openxmlformats.org/officeDocument/2006/relationships/slide" Target="slide7.xml"/><Relationship Id="rId12" Type="http://schemas.openxmlformats.org/officeDocument/2006/relationships/image" Target="../media/image4.png"/><Relationship Id="rId13" Type="http://schemas.openxmlformats.org/officeDocument/2006/relationships/slide" Target="slide8.xml"/><Relationship Id="rId14" Type="http://schemas.openxmlformats.org/officeDocument/2006/relationships/image" Target="../media/image4.png"/><Relationship Id="rId15" Type="http://schemas.openxmlformats.org/officeDocument/2006/relationships/slide" Target="slide9.xml"/><Relationship Id="rId16" Type="http://schemas.openxmlformats.org/officeDocument/2006/relationships/image" Target="../media/image4.png"/><Relationship Id="rId17" Type="http://schemas.openxmlformats.org/officeDocument/2006/relationships/slide" Target="slide11.xml"/><Relationship Id="rId18" Type="http://schemas.openxmlformats.org/officeDocument/2006/relationships/image" Target="../media/image4.png"/><Relationship Id="rId19" Type="http://schemas.openxmlformats.org/officeDocument/2006/relationships/slide" Target="slide10.xml"/><Relationship Id="rId20" Type="http://schemas.openxmlformats.org/officeDocument/2006/relationships/image" Target="../media/image4.png"/><Relationship Id="rId21" Type="http://schemas.openxmlformats.org/officeDocument/2006/relationships/slide" Target="slide12.xml"/><Relationship Id="rId22" Type="http://schemas.openxmlformats.org/officeDocument/2006/relationships/image" Target="../media/image4.png"/><Relationship Id="rId23" Type="http://schemas.openxmlformats.org/officeDocument/2006/relationships/slide" Target="slide13.xml"/><Relationship Id="rId24" Type="http://schemas.openxmlformats.org/officeDocument/2006/relationships/image" Target="../media/image4.png"/><Relationship Id="rId25" Type="http://schemas.openxmlformats.org/officeDocument/2006/relationships/slide" Target="slide16.xml"/><Relationship Id="rId26" Type="http://schemas.openxmlformats.org/officeDocument/2006/relationships/image" Target="../media/image4.png"/><Relationship Id="rId27" Type="http://schemas.openxmlformats.org/officeDocument/2006/relationships/slide" Target="slide15.xml"/><Relationship Id="rId28" Type="http://schemas.openxmlformats.org/officeDocument/2006/relationships/image" Target="../media/image4.png"/><Relationship Id="rId29" Type="http://schemas.openxmlformats.org/officeDocument/2006/relationships/slide" Target="slide17.xml"/><Relationship Id="rId30" Type="http://schemas.openxmlformats.org/officeDocument/2006/relationships/image" Target="../media/image4.png"/><Relationship Id="rId31" Type="http://schemas.openxmlformats.org/officeDocument/2006/relationships/slide" Target="slide18.xml"/><Relationship Id="rId32" Type="http://schemas.openxmlformats.org/officeDocument/2006/relationships/image" Target="../media/image4.png"/><Relationship Id="rId33" Type="http://schemas.openxmlformats.org/officeDocument/2006/relationships/slide" Target="slide21.xml"/><Relationship Id="rId34" Type="http://schemas.openxmlformats.org/officeDocument/2006/relationships/image" Target="../media/image4.png"/><Relationship Id="rId35" Type="http://schemas.openxmlformats.org/officeDocument/2006/relationships/slide" Target="slide20.xml"/><Relationship Id="rId36" Type="http://schemas.openxmlformats.org/officeDocument/2006/relationships/image" Target="../media/image4.png"/><Relationship Id="rId37" Type="http://schemas.openxmlformats.org/officeDocument/2006/relationships/slide" Target="slide22.xml"/><Relationship Id="rId38" Type="http://schemas.openxmlformats.org/officeDocument/2006/relationships/image" Target="../media/image4.png"/><Relationship Id="rId39" Type="http://schemas.openxmlformats.org/officeDocument/2006/relationships/slide" Target="slide23.xml"/><Relationship Id="rId40" Type="http://schemas.openxmlformats.org/officeDocument/2006/relationships/image" Target="../media/image4.png"/><Relationship Id="rId41" Type="http://schemas.openxmlformats.org/officeDocument/2006/relationships/slide" Target="slide26.xml"/><Relationship Id="rId42" Type="http://schemas.openxmlformats.org/officeDocument/2006/relationships/image" Target="../media/image4.png"/><Relationship Id="rId43" Type="http://schemas.openxmlformats.org/officeDocument/2006/relationships/slide" Target="slide25.xml"/><Relationship Id="rId44" Type="http://schemas.openxmlformats.org/officeDocument/2006/relationships/image" Target="../media/image4.png"/><Relationship Id="rId45" Type="http://schemas.openxmlformats.org/officeDocument/2006/relationships/slide" Target="slide27.xml"/><Relationship Id="rId46" Type="http://schemas.openxmlformats.org/officeDocument/2006/relationships/image" Target="../media/image4.png"/><Relationship Id="rId47" Type="http://schemas.openxmlformats.org/officeDocument/2006/relationships/slide" Target="slide28.xml"/><Relationship Id="rId48" Type="http://schemas.openxmlformats.org/officeDocument/2006/relationships/image" Target="../media/image4.png"/><Relationship Id="rId49" Type="http://schemas.openxmlformats.org/officeDocument/2006/relationships/slide" Target="slide14.xml"/><Relationship Id="rId50" Type="http://schemas.openxmlformats.org/officeDocument/2006/relationships/image" Target="../media/image4.png"/><Relationship Id="rId51" Type="http://schemas.openxmlformats.org/officeDocument/2006/relationships/slide" Target="slide19.xml"/><Relationship Id="rId52" Type="http://schemas.openxmlformats.org/officeDocument/2006/relationships/image" Target="../media/image4.png"/><Relationship Id="rId53" Type="http://schemas.openxmlformats.org/officeDocument/2006/relationships/slide" Target="slide24.xml"/><Relationship Id="rId54" Type="http://schemas.openxmlformats.org/officeDocument/2006/relationships/image" Target="../media/image4.png"/><Relationship Id="rId55" Type="http://schemas.openxmlformats.org/officeDocument/2006/relationships/slide" Target="slide29.xml"/><Relationship Id="rId56" Type="http://schemas.openxmlformats.org/officeDocument/2006/relationships/slide" Target="slide30.xml"/><Relationship Id="rId5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4.xml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" Target="slide4.xml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" Target="slide4.xml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" Target="slide4.xml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" Target="slide4.xml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179280" y="5805360"/>
            <a:ext cx="691380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c24"/>
                </a:solidFill>
                <a:latin typeface="Arial"/>
              </a:rPr>
              <a:t>В виде буквы С - старая, убывающ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324000" y="1341360"/>
            <a:ext cx="6840360" cy="4032360"/>
          </a:xfrm>
          <a:prstGeom prst="wedgeEllipseCallout">
            <a:avLst>
              <a:gd name="adj1" fmla="val 51717"/>
              <a:gd name="adj2" fmla="val -598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ак различить по внешнему виду серп растущей Луны от убывающей?</a:t>
            </a:r>
            <a:r>
              <a:rPr b="1" lang="ru-RU" sz="2800" spc="-1" strike="noStrike">
                <a:solidFill>
                  <a:srgbClr val="fcfc24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11280" y="47628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12000" y="5373720"/>
            <a:ext cx="112104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3709440" y="6021360"/>
            <a:ext cx="16452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Вене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0" y="1197000"/>
            <a:ext cx="7956720" cy="3959280"/>
          </a:xfrm>
          <a:prstGeom prst="wedgeEllipseCallout">
            <a:avLst>
              <a:gd name="adj1" fmla="val 39745"/>
              <a:gd name="adj2" fmla="val -6687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Bookman Old Style"/>
              </a:rPr>
              <a:t>Какая планета известна под именем утренней или вечерней звезды?</a:t>
            </a: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615960" y="476280"/>
            <a:ext cx="360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40720" y="5445000"/>
            <a:ext cx="112068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"/>
          <p:cNvSpPr/>
          <p:nvPr/>
        </p:nvSpPr>
        <p:spPr>
          <a:xfrm>
            <a:off x="179280" y="5734080"/>
            <a:ext cx="6093000" cy="106884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Звезды мерцают, а планеты светят ровным свето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89040" y="617400"/>
            <a:ext cx="360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0" y="1557360"/>
            <a:ext cx="7308720" cy="3960720"/>
          </a:xfrm>
          <a:prstGeom prst="wedgeEllipseCallout">
            <a:avLst>
              <a:gd name="adj1" fmla="val 52912"/>
              <a:gd name="adj2" fmla="val -739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Можно ли отличить планету от звезды невооруженным взглядом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40720" y="5445000"/>
            <a:ext cx="112068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"/>
          <p:cNvSpPr/>
          <p:nvPr/>
        </p:nvSpPr>
        <p:spPr>
          <a:xfrm>
            <a:off x="179280" y="5950080"/>
            <a:ext cx="67690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Нет, т.к. на Луне нет атмосфер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50920" y="1773360"/>
            <a:ext cx="6696000" cy="3814560"/>
          </a:xfrm>
          <a:prstGeom prst="wedgeEllipseCallout">
            <a:avLst>
              <a:gd name="adj1" fmla="val 55499"/>
              <a:gd name="adj2" fmla="val -7218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 </a:t>
            </a: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Может ли на Луне работать барометр-анероид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84360" y="54936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Кот в мешк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40720" y="5373720"/>
            <a:ext cx="112068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"/>
          <p:cNvSpPr/>
          <p:nvPr/>
        </p:nvSpPr>
        <p:spPr>
          <a:xfrm>
            <a:off x="2268360" y="5805360"/>
            <a:ext cx="41022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Желтый карли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15960" y="549360"/>
            <a:ext cx="360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24000" y="2421000"/>
            <a:ext cx="6769080" cy="3024000"/>
          </a:xfrm>
          <a:prstGeom prst="wedgeEllipseCallout">
            <a:avLst>
              <a:gd name="adj1" fmla="val 52393"/>
              <a:gd name="adj2" fmla="val -10181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 каким звездам относится наше Солнце?</a:t>
            </a: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4"/>
          <a:stretch/>
        </p:blipFill>
        <p:spPr>
          <a:xfrm>
            <a:off x="7812000" y="5373720"/>
            <a:ext cx="112104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2771640" y="5734080"/>
            <a:ext cx="41040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Млечного Пу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50920" y="907920"/>
            <a:ext cx="7345440" cy="4610160"/>
          </a:xfrm>
          <a:prstGeom prst="cloudCallout">
            <a:avLst>
              <a:gd name="adj1" fmla="val 43495"/>
              <a:gd name="adj2" fmla="val -4714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cfc24"/>
                </a:solidFill>
                <a:latin typeface="Bookman Old Style"/>
              </a:rPr>
              <a:t>К. Прутк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Но вот уж меркнет Солнца луч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Выходит месяц из-за туч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И освящает на пути Все звезды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99600" y="260280"/>
            <a:ext cx="67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Мир звезд в поэз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4"/>
          <a:stretch/>
        </p:blipFill>
        <p:spPr>
          <a:xfrm>
            <a:off x="7524720" y="530064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"/>
          <p:cNvSpPr/>
          <p:nvPr/>
        </p:nvSpPr>
        <p:spPr>
          <a:xfrm>
            <a:off x="3058560" y="5805360"/>
            <a:ext cx="16300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Ком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24000" y="981000"/>
            <a:ext cx="7343640" cy="4680000"/>
          </a:xfrm>
          <a:prstGeom prst="cloudCallout">
            <a:avLst>
              <a:gd name="adj1" fmla="val 43513"/>
              <a:gd name="adj2" fmla="val -4568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cfc24"/>
                </a:solidFill>
                <a:latin typeface="Bookman Old Style"/>
              </a:rPr>
              <a:t>М.Цветаев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Косматая звезда, Спешащая в нику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Из страшного ниоткуд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99600" y="260280"/>
            <a:ext cx="67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Мир звезд в поэз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4"/>
          <a:stretch/>
        </p:blipFill>
        <p:spPr>
          <a:xfrm>
            <a:off x="7451640" y="522936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"/>
          <p:cNvSpPr/>
          <p:nvPr/>
        </p:nvSpPr>
        <p:spPr>
          <a:xfrm>
            <a:off x="1116000" y="5589720"/>
            <a:ext cx="5627880" cy="119124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Arial"/>
              </a:rPr>
              <a:t>Метеоры- атмосферное явление, сгорание космически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Arial"/>
              </a:rPr>
              <a:t>частиц в атмосфе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0" y="1125360"/>
            <a:ext cx="7524720" cy="4391280"/>
          </a:xfrm>
          <a:prstGeom prst="cloudCallout">
            <a:avLst>
              <a:gd name="adj1" fmla="val 44597"/>
              <a:gd name="adj2" fmla="val -5195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cfc24"/>
                </a:solidFill>
                <a:latin typeface="Bookman Old Style"/>
              </a:rPr>
              <a:t>М.Цветае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Август – астр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Август – звезд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Август –грозд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винограда и ряби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Ржавой - август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Август - меся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Bookman Old Style"/>
              </a:rPr>
              <a:t>Ливней звездных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cfc24"/>
                </a:solidFill>
                <a:uFillTx/>
                <a:latin typeface="Bookman Old Style"/>
              </a:rPr>
              <a:t>Что это за ливн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99600" y="260280"/>
            <a:ext cx="67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Мир звезд в поэз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4"/>
          <a:stretch/>
        </p:blipFill>
        <p:spPr>
          <a:xfrm>
            <a:off x="7451640" y="515772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"/>
          <p:cNvSpPr/>
          <p:nvPr/>
        </p:nvSpPr>
        <p:spPr>
          <a:xfrm>
            <a:off x="2915640" y="6093000"/>
            <a:ext cx="34160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М.Ю.Лермо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250920" y="1052640"/>
            <a:ext cx="7705800" cy="5040360"/>
          </a:xfrm>
          <a:prstGeom prst="cloudCallout">
            <a:avLst>
              <a:gd name="adj1" fmla="val 39120"/>
              <a:gd name="adj2" fmla="val -5024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«Ночь тиха, пустыня внемлет богу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и звезда с звездою говорит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cfc24"/>
                </a:solidFill>
                <a:latin typeface="Bookman Old Style"/>
              </a:rPr>
              <a:t>Кто автор этих строк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99600" y="260280"/>
            <a:ext cx="67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Мир звезд в поэз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4"/>
          <a:stretch/>
        </p:blipFill>
        <p:spPr>
          <a:xfrm>
            <a:off x="7451640" y="522936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"/>
          <p:cNvSpPr/>
          <p:nvPr/>
        </p:nvSpPr>
        <p:spPr>
          <a:xfrm>
            <a:off x="0" y="6021360"/>
            <a:ext cx="7099200" cy="8254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cfc24"/>
                </a:solidFill>
                <a:latin typeface="Arial"/>
              </a:rPr>
              <a:t>Звездочка моя ясная. Гори, гори, моя звезда. Две звезд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250920" y="1268280"/>
            <a:ext cx="6048360" cy="4176720"/>
          </a:xfrm>
          <a:prstGeom prst="cloudCallout">
            <a:avLst>
              <a:gd name="adj1" fmla="val 63541"/>
              <a:gd name="adj2" fmla="val -5722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cfc24"/>
                </a:solidFill>
                <a:latin typeface="Bookman Old Style"/>
              </a:rPr>
              <a:t>Музыкальный вопро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Назовите романсы или песни, где встречается слово «звезда»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99600" y="260280"/>
            <a:ext cx="67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ма: Мир звезд в поэз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4"/>
          <a:stretch/>
        </p:blipFill>
        <p:spPr>
          <a:xfrm>
            <a:off x="7451640" y="5229360"/>
            <a:ext cx="147816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2" descr=""/>
          <p:cNvPicPr/>
          <p:nvPr/>
        </p:nvPicPr>
        <p:blipFill>
          <a:blip r:embed="rId1"/>
          <a:stretch/>
        </p:blipFill>
        <p:spPr>
          <a:xfrm>
            <a:off x="1395360" y="36360"/>
            <a:ext cx="7358040" cy="148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ловечество не останется вечно на Земле, оно в погоне за светом и пространством сначала робко проникнет за пределы атмосферы, а затем завоюет себе все околосолнечное простран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.Э.Циолков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Wide Latin"/>
              </a:rPr>
              <a:t>Познавательная игра к Дню Космонавтик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2"/>
          <p:cNvSpPr/>
          <p:nvPr/>
        </p:nvSpPr>
        <p:spPr>
          <a:xfrm rot="10800000">
            <a:off x="394920" y="1627920"/>
            <a:ext cx="6048360" cy="2808360"/>
          </a:xfrm>
          <a:prstGeom prst="wedgeRectCallout">
            <a:avLst>
              <a:gd name="adj1" fmla="val -60055"/>
              <a:gd name="adj2" fmla="val 7221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Кто побывал в космосе до человека и как звали первых посланцев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78360" y="27468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79280" y="4941720"/>
            <a:ext cx="7344000" cy="15562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Собаки: Лайка, Белка, Стрелка, Пчелка, Мушка, Звездочка, Чернушка, Уголек, Ветерок - 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4"/>
          <a:stretch/>
        </p:blipFill>
        <p:spPr>
          <a:xfrm>
            <a:off x="7956720" y="494172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2"/>
          <p:cNvSpPr/>
          <p:nvPr/>
        </p:nvSpPr>
        <p:spPr>
          <a:xfrm rot="10800000">
            <a:off x="323640" y="1773000"/>
            <a:ext cx="6335640" cy="2808000"/>
          </a:xfrm>
          <a:prstGeom prst="wedgeRectCallout">
            <a:avLst>
              <a:gd name="adj1" fmla="val -56041"/>
              <a:gd name="adj2" fmla="val 7696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С какого космодрома, расположенног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в Россиии 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взлетают ракеты ?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97440" y="260280"/>
            <a:ext cx="444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т в мешк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187280" y="5661000"/>
            <a:ext cx="49690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г.Мирный, Плесец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4"/>
          <a:stretch/>
        </p:blipFill>
        <p:spPr>
          <a:xfrm>
            <a:off x="7812000" y="4941720"/>
            <a:ext cx="106704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2"/>
          <p:cNvSpPr/>
          <p:nvPr/>
        </p:nvSpPr>
        <p:spPr>
          <a:xfrm rot="10800000">
            <a:off x="394920" y="2204640"/>
            <a:ext cx="6048360" cy="2664000"/>
          </a:xfrm>
          <a:prstGeom prst="wedgeRectCallout">
            <a:avLst>
              <a:gd name="adj1" fmla="val -59527"/>
              <a:gd name="adj2" fmla="val 9290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то из космонавтов первым вышел в открытый космос?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70520" y="33336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01040" y="5589720"/>
            <a:ext cx="69778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Алексей Леонов 18 марта 1965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4"/>
          <a:stretch/>
        </p:blipFill>
        <p:spPr>
          <a:xfrm>
            <a:off x="7885080" y="508464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2"/>
          <p:cNvSpPr/>
          <p:nvPr/>
        </p:nvSpPr>
        <p:spPr>
          <a:xfrm rot="10800000">
            <a:off x="323640" y="2204280"/>
            <a:ext cx="6119640" cy="3095640"/>
          </a:xfrm>
          <a:prstGeom prst="wedgeRectCallout">
            <a:avLst>
              <a:gd name="adj1" fmla="val -59935"/>
              <a:gd name="adj2" fmla="val 87435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Открытое пребывание на Луне длилось 62 минуты 16 секунд. Как звали первого астронавта, прилетевшего на Луну  20-21 июля 1969 год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78360" y="27468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6021360"/>
            <a:ext cx="561636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Verdana"/>
              </a:rPr>
              <a:t>Нил Армстрон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4"/>
          <a:stretch/>
        </p:blipFill>
        <p:spPr>
          <a:xfrm>
            <a:off x="7956720" y="501336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"/>
          <p:cNvSpPr/>
          <p:nvPr/>
        </p:nvSpPr>
        <p:spPr>
          <a:xfrm rot="10800000">
            <a:off x="394920" y="2204640"/>
            <a:ext cx="6048360" cy="2664000"/>
          </a:xfrm>
          <a:prstGeom prst="wedgeRectCallout">
            <a:avLst>
              <a:gd name="adj1" fmla="val -59791"/>
              <a:gd name="adj2" fmla="val 9064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Кто из женщин-космонавтов в 1963 году впервые побывала в космосе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378360" y="27468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756800" y="5589720"/>
            <a:ext cx="49842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Валентина Терешко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4"/>
          <a:stretch/>
        </p:blipFill>
        <p:spPr>
          <a:xfrm>
            <a:off x="7885080" y="5084640"/>
            <a:ext cx="106668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78360" y="2746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39640" y="6093000"/>
            <a:ext cx="684072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СССР, «Марс-3» 28 мая 197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539640" y="1916280"/>
            <a:ext cx="6840720" cy="3673440"/>
          </a:xfrm>
          <a:prstGeom prst="wedgeRoundRectCallout">
            <a:avLst>
              <a:gd name="adj1" fmla="val 48467"/>
              <a:gd name="adj2" fmla="val -68106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Bookman Old Style"/>
              </a:rPr>
              <a:t>Какой стране принадлежит честь первой мягкой посадки на поверхности Марса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4"/>
          <a:stretch/>
        </p:blipFill>
        <p:spPr>
          <a:xfrm>
            <a:off x="8028000" y="494172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78360" y="2746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279240" y="6093000"/>
            <a:ext cx="152352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В ту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95280" y="2060640"/>
            <a:ext cx="6121440" cy="3456000"/>
          </a:xfrm>
          <a:prstGeom prst="wedgeRoundRectCallout">
            <a:avLst>
              <a:gd name="adj1" fmla="val 62398"/>
              <a:gd name="adj2" fmla="val -73425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В чем хранятся продукты в космических кораблях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8028000" y="494172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97440" y="2602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96400" y="5877000"/>
            <a:ext cx="50954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Нет, т.к. они теряют ве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324000" y="1700280"/>
            <a:ext cx="7272360" cy="3672000"/>
          </a:xfrm>
          <a:prstGeom prst="wedgeRoundRectCallout">
            <a:avLst>
              <a:gd name="adj1" fmla="val 45592"/>
              <a:gd name="adj2" fmla="val -62236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Могут ли космонавту пригодится гантели для занятий физическими упражнениями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8" descr=""/>
          <p:cNvPicPr/>
          <p:nvPr/>
        </p:nvPicPr>
        <p:blipFill>
          <a:blip r:embed="rId4"/>
          <a:stretch/>
        </p:blipFill>
        <p:spPr>
          <a:xfrm>
            <a:off x="8028000" y="494172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97440" y="2602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95280" y="5589720"/>
            <a:ext cx="7056360" cy="8254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Невесомость. Чтобы не вдохнуть частицы, которые могут случайно оказаться в отсе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324000" y="1628640"/>
            <a:ext cx="6121080" cy="3814920"/>
          </a:xfrm>
          <a:prstGeom prst="wedgeRoundRectCallout">
            <a:avLst>
              <a:gd name="adj1" fmla="val 63564"/>
              <a:gd name="adj2" fmla="val -67476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Когда космонавт ложится спать, он привязывает свой спальный мешок и закрывает свое лицо сеткой. Почему?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4"/>
          <a:stretch/>
        </p:blipFill>
        <p:spPr>
          <a:xfrm>
            <a:off x="8028000" y="501336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97440" y="2602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419640" y="5877000"/>
            <a:ext cx="295272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Скафандр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24000" y="1773360"/>
            <a:ext cx="6121080" cy="3456000"/>
          </a:xfrm>
          <a:prstGeom prst="wedgeRoundRectCallout">
            <a:avLst>
              <a:gd name="adj1" fmla="val 63564"/>
              <a:gd name="adj2" fmla="val -73472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ак называется одежда, которая необходима для выхода в космос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4"/>
          <a:stretch/>
        </p:blipFill>
        <p:spPr>
          <a:xfrm>
            <a:off x="8028000" y="5013360"/>
            <a:ext cx="91440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57120" y="214200"/>
            <a:ext cx="878688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Wide Latin"/>
              </a:rPr>
              <a:t>Ах, этот день двенадцатый апреля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Wide Latin"/>
              </a:rPr>
              <a:t>Как он пронесся по людским сердцам,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Wide Latin"/>
              </a:rPr>
              <a:t>Казалось, мир невольно стал добрее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Wide Latin"/>
              </a:rPr>
              <a:t>Своей победой потрясенный сам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Wide Latin"/>
              </a:rPr>
              <a:t>Какой гремел он музыкой вселенской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Wide Latin"/>
              </a:rPr>
              <a:t>Когда безвестный сын земли смоленс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Wide Latin"/>
              </a:rPr>
              <a:t>Землей планетной был усыновле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1468440" y="328680"/>
            <a:ext cx="7327800" cy="1152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1.  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Назовите планеты Солнечной системы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Меркурий, Венера, Земля, Марс, Юпитер, Сатурн, Уран, Нептун, Плутон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2.   Что такое Зодиак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1" lang="ru-RU" sz="4000" spc="-1" strike="noStrike">
                <a:solidFill>
                  <a:srgbClr val="3333ff"/>
                </a:solidFill>
                <a:latin typeface="Times New Roman"/>
              </a:rPr>
              <a:t>Зодиаком называют 12 созвездий, через которые проходит Солнце, совершая свой видимый годичный пу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250920" y="1827000"/>
            <a:ext cx="843264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3.   Через какие созвездия проходит Солнце, совершая свой годичный путь?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Все ли знаки Зодиака названы правильно?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(Овен, Телец, Братья, Рак, Тигр, Дева, Весы, Паук, Охотник, Козерог, Водолей, Окунь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2"/>
          <p:cNvSpPr txBox="1"/>
          <p:nvPr/>
        </p:nvSpPr>
        <p:spPr>
          <a:xfrm>
            <a:off x="1403280" y="1484280"/>
            <a:ext cx="640872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2-й ту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0" y="1557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Как вас зовут?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«Я вас полюбил с первого взгляд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«Который час на вашей планете?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«Полетишь с нами на Землю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«У вас море есть?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«Мне нужен врач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395280" y="189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buClr>
                <a:srgbClr val="46465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 помощью жестов объясните следующие фраз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924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28760" y="157140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Восходящая звезда;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Звезда первой величины;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Родиться под счастливой звездой; 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Путеводная звезда;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Витать между небом и землей;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Как небо и земля;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Звездный час;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</a:rPr>
              <a:t>Звезд с неба не хватает;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92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92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Возносить до небес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Занять место под солнцем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Как с Луны свалилс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Попасть пальцем в небо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Попасть на седьмое небо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ебу жарко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ебо копти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1468440" y="109440"/>
            <a:ext cx="7254720" cy="14382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442520" y="1267920"/>
            <a:ext cx="72392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Меню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00cc"/>
                </a:solidFill>
                <a:latin typeface="Times New Roman"/>
              </a:rPr>
              <a:t>15 апреля 2009г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00cc"/>
                </a:solidFill>
                <a:latin typeface="Times New Roman"/>
              </a:rPr>
              <a:t>Напитки: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1. Млечный путь  - 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1 лунат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.Туманность Андромеды  -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3.Слезы Венеры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  -  1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00cc"/>
                </a:solidFill>
                <a:latin typeface="Times New Roman"/>
              </a:rPr>
              <a:t>Холодные блюд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. Мечта космонавта  -  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5 лунатик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. Корабль желаний  - 5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лунатик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00cc"/>
                </a:solidFill>
                <a:latin typeface="Times New Roman"/>
              </a:rPr>
              <a:t>Горячие блюд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. Звездная пыль  -  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10 лунатик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. Привет с Земли  -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лунатико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00cc"/>
                </a:solidFill>
                <a:latin typeface="Times New Roman"/>
              </a:rPr>
              <a:t>Десерт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1. Солнечная россыпь   -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2.Две звезды  -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3. Астероиды   -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4. Созвездие «Аполлон»  -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 лунати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486108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0" y="350028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Мир звезд в поэз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0" y="249228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косм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0" y="148428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0" y="4508640"/>
            <a:ext cx="3672000" cy="93636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космонав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0" y="5516640"/>
            <a:ext cx="3672000" cy="9367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осмические кораб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378000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9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594036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1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6948360" y="1557360"/>
            <a:ext cx="1008360" cy="86364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3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7920000" y="1557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5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485928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7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377820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19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AutoShape 14"/>
          <p:cNvSpPr/>
          <p:nvPr/>
        </p:nvSpPr>
        <p:spPr>
          <a:xfrm>
            <a:off x="593892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1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AutoShape 15"/>
          <p:cNvSpPr/>
          <p:nvPr/>
        </p:nvSpPr>
        <p:spPr>
          <a:xfrm>
            <a:off x="694692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3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486108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5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AutoShape 17"/>
          <p:cNvSpPr/>
          <p:nvPr/>
        </p:nvSpPr>
        <p:spPr>
          <a:xfrm>
            <a:off x="378000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7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AutoShape 18"/>
          <p:cNvSpPr/>
          <p:nvPr/>
        </p:nvSpPr>
        <p:spPr>
          <a:xfrm>
            <a:off x="594036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29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AutoShape 19"/>
          <p:cNvSpPr/>
          <p:nvPr/>
        </p:nvSpPr>
        <p:spPr>
          <a:xfrm>
            <a:off x="6948360" y="3573360"/>
            <a:ext cx="1008360" cy="863640"/>
          </a:xfrm>
          <a:prstGeom prst="bevel">
            <a:avLst>
              <a:gd name="adj" fmla="val 12500"/>
            </a:avLst>
          </a:prstGeom>
          <a:blipFill rotWithShape="0">
            <a:blip r:embed="rId3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1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AutoShape 20"/>
          <p:cNvSpPr/>
          <p:nvPr/>
        </p:nvSpPr>
        <p:spPr>
          <a:xfrm>
            <a:off x="485928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3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AutoShape 21"/>
          <p:cNvSpPr/>
          <p:nvPr/>
        </p:nvSpPr>
        <p:spPr>
          <a:xfrm>
            <a:off x="377820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5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utoShape 22"/>
          <p:cNvSpPr/>
          <p:nvPr/>
        </p:nvSpPr>
        <p:spPr>
          <a:xfrm>
            <a:off x="593892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7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AutoShape 23"/>
          <p:cNvSpPr/>
          <p:nvPr/>
        </p:nvSpPr>
        <p:spPr>
          <a:xfrm>
            <a:off x="694692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39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24"/>
          <p:cNvSpPr/>
          <p:nvPr/>
        </p:nvSpPr>
        <p:spPr>
          <a:xfrm>
            <a:off x="493236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1" action="ppaction://hlinksldjump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25"/>
          <p:cNvSpPr/>
          <p:nvPr/>
        </p:nvSpPr>
        <p:spPr>
          <a:xfrm>
            <a:off x="378000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3" action="ppaction://hlinksldjump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AutoShape 26"/>
          <p:cNvSpPr/>
          <p:nvPr/>
        </p:nvSpPr>
        <p:spPr>
          <a:xfrm>
            <a:off x="601200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5" action="ppaction://hlinksldjump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27"/>
          <p:cNvSpPr/>
          <p:nvPr/>
        </p:nvSpPr>
        <p:spPr>
          <a:xfrm>
            <a:off x="702000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6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7" action="ppaction://hlinksldjump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AutoShape 28"/>
          <p:cNvSpPr/>
          <p:nvPr/>
        </p:nvSpPr>
        <p:spPr>
          <a:xfrm>
            <a:off x="7918560" y="2565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48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49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AutoShape 29"/>
          <p:cNvSpPr/>
          <p:nvPr/>
        </p:nvSpPr>
        <p:spPr>
          <a:xfrm>
            <a:off x="7920000" y="3573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5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51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AutoShape 30"/>
          <p:cNvSpPr/>
          <p:nvPr/>
        </p:nvSpPr>
        <p:spPr>
          <a:xfrm>
            <a:off x="7991640" y="458136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5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53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AutoShape 31"/>
          <p:cNvSpPr/>
          <p:nvPr/>
        </p:nvSpPr>
        <p:spPr>
          <a:xfrm>
            <a:off x="7991640" y="5516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5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292ca"/>
                </a:solidFill>
                <a:uFillTx/>
                <a:latin typeface="Bookman Old Style"/>
                <a:hlinkClick r:id="rId55" action="ppaction://hlinksldjump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250920" y="0"/>
            <a:ext cx="8640720" cy="7858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Игра «</a:t>
            </a:r>
            <a:r>
              <a:rPr b="0" lang="ru-RU" sz="4000" spc="-1" strike="noStrike" u="sng">
                <a:solidFill>
                  <a:srgbClr val="b292ca"/>
                </a:solidFill>
                <a:uFillTx/>
                <a:latin typeface="Bookman Old Style"/>
                <a:hlinkClick r:id="rId56" action="ppaction://hlinksldjump"/>
              </a:rPr>
              <a:t>Звездные дали</a:t>
            </a: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ff"/>
                </a:solidFill>
                <a:latin typeface="Tempus Sans ITC"/>
              </a:rPr>
              <a:t>Никогда не забывайте, что все начинается с мечты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ff"/>
                </a:solidFill>
                <a:latin typeface="Tempus Sans ITC"/>
              </a:rPr>
              <a:t>Не бойтесь мечтать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ff"/>
                </a:solidFill>
                <a:latin typeface="Tempus Sans ITC"/>
              </a:rPr>
              <a:t> </a:t>
            </a:r>
            <a:r>
              <a:rPr b="1" lang="ru-RU" sz="5400" spc="-1" strike="noStrike">
                <a:solidFill>
                  <a:srgbClr val="3333ff"/>
                </a:solidFill>
                <a:latin typeface="Tempus Sans ITC"/>
              </a:rPr>
              <a:t>Не ленитесь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ff"/>
                </a:solidFill>
                <a:latin typeface="Tempus Sans ITC"/>
              </a:rPr>
              <a:t>Спасибо за участие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ff"/>
                </a:solidFill>
                <a:latin typeface="Tempus Sans ITC"/>
              </a:rPr>
              <a:t>До новых встреч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3564000" y="6021360"/>
            <a:ext cx="230328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c24"/>
                </a:solidFill>
                <a:latin typeface="Arial"/>
              </a:rPr>
              <a:t>108 мину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324000" y="1700280"/>
            <a:ext cx="6624360" cy="2233440"/>
          </a:xfrm>
          <a:prstGeom prst="wedgeRoundRectCallout">
            <a:avLst>
              <a:gd name="adj1" fmla="val 51004"/>
              <a:gd name="adj2" fmla="val -71324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Сколько времени длился первый космический полет?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610920" y="260280"/>
            <a:ext cx="408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373720"/>
            <a:ext cx="154008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-290520" y="0"/>
            <a:ext cx="9434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2268360" y="5877000"/>
            <a:ext cx="49676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Академик С.П.Короле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745164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468360" y="1628640"/>
            <a:ext cx="6408720" cy="3888000"/>
          </a:xfrm>
          <a:prstGeom prst="wedgeRoundRectCallout">
            <a:avLst>
              <a:gd name="adj1" fmla="val 57305"/>
              <a:gd name="adj2" fmla="val -73685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Назовите выдающегося конструктора ракет, с именем которого связаны первые наши победы в освоении космоса?</a:t>
            </a: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11280" y="260280"/>
            <a:ext cx="423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 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04280" y="5516640"/>
            <a:ext cx="153972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2340000" y="5734080"/>
            <a:ext cx="38876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К.Э.Циолковс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11280" y="260280"/>
            <a:ext cx="423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 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11280" y="1773360"/>
            <a:ext cx="6192720" cy="3240000"/>
          </a:xfrm>
          <a:prstGeom prst="wedgeRoundRectCallout">
            <a:avLst>
              <a:gd name="adj1" fmla="val 56870"/>
              <a:gd name="adj2" fmla="val -77291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то из ученых нашей страны является основоположником космонавтики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445000"/>
            <a:ext cx="154008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2627280" y="6093000"/>
            <a:ext cx="316692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Телеско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11280" y="260280"/>
            <a:ext cx="43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Кот в мешк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250920" y="1628640"/>
            <a:ext cx="6337080" cy="4105440"/>
          </a:xfrm>
          <a:prstGeom prst="wedgeRoundRectCallout">
            <a:avLst>
              <a:gd name="adj1" fmla="val 60671"/>
              <a:gd name="adj2" fmla="val -67092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2009 г. провозглашен Годом Астрономии, т.к. именно в этот год будет отмечаться 400-летие открытий Г. Галилея. Какой прибор он изобрел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445000"/>
            <a:ext cx="154008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1042920" y="5805360"/>
            <a:ext cx="47530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4 октября 1957 го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11280" y="260280"/>
            <a:ext cx="423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c24"/>
                </a:solidFill>
                <a:latin typeface="Arial"/>
              </a:rPr>
              <a:t>Тема: Истор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324000" y="1557360"/>
            <a:ext cx="5616360" cy="3382920"/>
          </a:xfrm>
          <a:prstGeom prst="wedgeRoundRectCallout">
            <a:avLst>
              <a:gd name="adj1" fmla="val 73685"/>
              <a:gd name="adj2" fmla="val -69379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акая дата стала началом космической эры?</a:t>
            </a:r>
            <a:r>
              <a:rPr b="1" lang="ru-RU" sz="4400" spc="-1" strike="noStrike">
                <a:solidFill>
                  <a:srgbClr val="fcfc24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8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80360" y="5300640"/>
            <a:ext cx="153972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2:48Z</dcterms:created>
  <dc:creator>1234</dc:creator>
  <dc:description/>
  <dc:language>en-US</dc:language>
  <cp:lastModifiedBy>Ученик</cp:lastModifiedBy>
  <dcterms:modified xsi:type="dcterms:W3CDTF">2011-04-19T05:14:39Z</dcterms:modified>
  <cp:revision>38</cp:revision>
  <dc:subject/>
  <dc:title>Слайд 1</dc:title>
</cp:coreProperties>
</file>